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1EA3-7564-48A7-ABAB-5C66677D6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1A550-AF31-4ADA-B3EA-74F3B8A7A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CD4B5-2CC4-45DD-A68F-E8B187EC6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9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91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12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9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91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D4D2-283D-4BCF-93A5-C5EAED1509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40577-0E2F-441B-A865-13F69DCD28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A5B27-759C-4B34-AF1C-BFDB2D924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C8C5C-2CEF-4A6F-967F-D26B7D8EC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CAB4-2A5D-4616-B122-53941697E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" y="1522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5F109-F6AD-4FBE-9BF7-4E2914881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3DB2-4C39-43A0-9BE8-C1E17F75D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0E290-D65E-4D81-A9FF-F2E6AE188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9328A-3B03-4D50-B9BC-9E2581AE8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85120"/>
            <a:ext cx="9144000" cy="27432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3" marL="16002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249120"/>
            <a:ext cx="89917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0"/>
            <a:ext cx="9144000" cy="27648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mic Sans MS"/>
              </a:rPr>
              <a:t>Assertions, Constraints, OCL and Contrac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192360" y="660060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Verdana"/>
              </a:rPr>
              <a:t>- </a:t>
            </a:r>
            <a:fld id="{48FFBFAF-3380-496A-80CB-3FE4A7CAF789}" type="slidenum">
              <a:rPr b="1" lang="en-US" sz="9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218360" y="6613560"/>
            <a:ext cx="192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Comic Sans MS"/>
              </a:rPr>
              <a:t>© 2006 University of Y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odelware-ist.org/bb2Forum/index.php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ff"/>
                </a:solidFill>
                <a:latin typeface="Comic Sans MS"/>
              </a:rPr>
              <a:t>Assertions, Constraints and OC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2"/>
                </a:solidFill>
                <a:latin typeface="Comic Sans MS"/>
              </a:rPr>
              <a:t>Mechanisms and Method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Department of Computer Scienc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The University of York, Heslington, York YO10 5DD, Eng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http://www.cs.york.ac.uk/~pai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6515280"/>
          <a:ext cx="242568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15280"/>
                    <a:ext cx="242568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FBFA4-FE16-4D92-B321-C74278E1098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What if the Precondition Fails?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That is, what should happen if a client foolishly calls a method when the precondition is </a:t>
            </a:r>
            <a:r>
              <a:rPr b="0" i="1" lang="en-CA" sz="2500" spc="-1" strike="noStrike">
                <a:solidFill>
                  <a:srgbClr val="000066"/>
                </a:solidFill>
                <a:latin typeface="Comic Sans MS"/>
              </a:rPr>
              <a:t>false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?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ff3300"/>
                </a:solidFill>
                <a:latin typeface="Comic Sans MS"/>
              </a:rPr>
              <a:t>A precondition violation is the client’s fault!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Thus, a </a:t>
            </a:r>
            <a:r>
              <a:rPr b="0" i="1" lang="en-CA" sz="2500" spc="-1" strike="noStrike">
                <a:solidFill>
                  <a:srgbClr val="000066"/>
                </a:solidFill>
                <a:latin typeface="Comic Sans MS"/>
              </a:rPr>
              <a:t>false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 precondition is the result of an error in the caller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Extremely helpful in tracking down error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Failed precondition -&gt; ignore supplier code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Formally, the contract says nothing about what should be done if the precondition fails, so any behaviour (infinite loop, exception handler, return error message) is acceptabl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5E49D-DC2D-4436-9063-4B68059306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6760" y="152280"/>
            <a:ext cx="79138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Class Invariant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Classes may have global properties, preserved by “all” method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This is captured in the </a:t>
            </a:r>
            <a:r>
              <a:rPr b="1" i="1" lang="en-CA" sz="2500" spc="-1" strike="noStrike">
                <a:solidFill>
                  <a:srgbClr val="000066"/>
                </a:solidFill>
                <a:latin typeface="Comic Sans MS"/>
              </a:rPr>
              <a:t>class invariant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2895480"/>
            <a:ext cx="7924680" cy="35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class IntStack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private int[] content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public int count, capacit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/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* @invariant count &gt;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* @invariant count &lt;= capacit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* @invariant capacity==contents.capacit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* @invariant empty()==(count==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* @invariant count&gt;0 implies contents[count]==top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F83A-078C-4A0F-9D02-1A41AB3BFFB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Who Must Satisfy the Invariant?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Despite its name, the invariant need not always be true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The </a:t>
            </a:r>
            <a:r>
              <a:rPr b="0" i="1" lang="en-CA" sz="2100" spc="-1" strike="noStrike">
                <a:solidFill>
                  <a:srgbClr val="000066"/>
                </a:solidFill>
                <a:latin typeface="Comic Sans MS"/>
              </a:rPr>
              <a:t>constructors</a:t>
            </a: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 must leave the object in a state satisfying the invariant; it cannot assume the invariant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Any legal call made by a client must start from a state satisfying the invariant, and must end up in such a state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“</a:t>
            </a: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Private” methods can do what they like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Comic Sans MS"/>
              </a:rPr>
              <a:t>But if they terminate in a state where the invariant is </a:t>
            </a:r>
            <a:r>
              <a:rPr b="0" i="1" lang="en-CA" sz="1800" spc="-1" strike="noStrike">
                <a:solidFill>
                  <a:srgbClr val="000066"/>
                </a:solidFill>
                <a:latin typeface="Comic Sans MS"/>
              </a:rPr>
              <a:t>false</a:t>
            </a:r>
            <a:r>
              <a:rPr b="0" lang="en-CA" sz="1800" spc="-1" strike="noStrike">
                <a:solidFill>
                  <a:srgbClr val="000066"/>
                </a:solidFill>
                <a:latin typeface="Comic Sans MS"/>
              </a:rPr>
              <a:t>, clients cannot use the object!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Comic Sans MS"/>
              </a:rPr>
              <a:t>This is sometimes too inflexible.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Comic Sans MS"/>
              </a:rPr>
              <a:t>Ongoing work at Microsoft Research is suggesting that explicit permission for various forms of “rollback” are needed for different methods or clients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F2DE-4CC1-4DAC-A005-240EC6CF7F4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Example - Bank Accoun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/**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* @invariant balance &gt;= 0;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*/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class Bank_Account {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public int balance;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public Bank_Account() { balance=0; }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/**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     </a:t>
            </a: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* @pre x&gt;0;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     </a:t>
            </a: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* @post balance==balance@pre+x;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    </a:t>
            </a: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*/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public void deposit(int x);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   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/**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     </a:t>
            </a: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* @pre x&lt;= balance;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     </a:t>
            </a: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* @post balance==balance@pre-x;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    </a:t>
            </a: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*/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void withdraw(int x);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   </a:t>
            </a:r>
            <a:r>
              <a:rPr b="1" lang="en-US" sz="15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E6982-9AF3-489C-A17D-43C1FA6C404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6760" y="152280"/>
            <a:ext cx="79138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Assertions at Run-Tim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The effect of an assertion at run-time should be under the control of the developer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Comic Sans MS"/>
              </a:rPr>
              <a:t>Checking assertions takes time (esp. invariants and postconditions)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For testing and debugging, checking all assertions is very important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For production releases, we may want to turn assertion checking off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iContract offers no fine-grained control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iContract plus iControl gives complete control over which assertions are checked (without modifying source code)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iControl: </a:t>
            </a:r>
            <a:r>
              <a:rPr b="1" lang="en-CA" sz="1900" spc="-1" strike="noStrike">
                <a:solidFill>
                  <a:srgbClr val="000066"/>
                </a:solidFill>
                <a:latin typeface="Courier New"/>
              </a:rPr>
              <a:t>icplus.sourceforge.net/iControl.html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D3801-9824-48D0-838A-7EE0FCC24F2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Inheritance and Assertio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43120" y="1390680"/>
            <a:ext cx="791352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Assume that we want to build a graphics library containing points, segments, vectors, circles, polygons, triangles, etc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500" spc="-1" strike="noStrike">
                <a:solidFill>
                  <a:srgbClr val="000066"/>
                </a:solidFill>
                <a:latin typeface="Comic Sans MS"/>
              </a:rPr>
              <a:t>Use an inheritance hierarchy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At some point in the hierarchy there will be the general notion of a Polygon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Specialized polygons will descend from it: rectangle, triangle, etc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Polygon class may introduce assertion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What happens to these assertions under inheritance?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2819520"/>
            <a:ext cx="80769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244F1-6BEF-4060-8233-9B5617EF5BB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6760" y="152280"/>
            <a:ext cx="7913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General Polygon Clas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0">
              <a:lnSpc>
                <a:spcPct val="65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/**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453240" indent="0">
              <a:lnSpc>
                <a:spcPct val="65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 @invariant count==vertices.size()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453240" indent="0">
              <a:lnSpc>
                <a:spcPct val="65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 @invariant count&gt;=3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453240" indent="0">
              <a:lnSpc>
                <a:spcPct val="65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 @invariant forall Object v in vertices |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453240" indent="0">
              <a:lnSpc>
                <a:spcPct val="65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              (v instanceof Point)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453240" indent="0">
              <a:lnSpc>
                <a:spcPct val="65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/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453240" indent="0">
              <a:lnSpc>
                <a:spcPct val="65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class Polygon {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453240" indent="0">
              <a:lnSpc>
                <a:spcPct val="65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453240" indent="0">
              <a:lnSpc>
                <a:spcPct val="65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public int count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453240" indent="0">
              <a:lnSpc>
                <a:spcPct val="65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public double perimeter() { ... }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453240" indent="0">
              <a:lnSpc>
                <a:spcPct val="65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public void display() { ... }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453240" indent="0">
              <a:lnSpc>
                <a:spcPct val="65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public void rotate(Point c,double angle){...}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453240" indent="0">
              <a:lnSpc>
                <a:spcPct val="65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public void translate(double a,b){...}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453240" indent="0">
              <a:lnSpc>
                <a:spcPct val="65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453240" indent="0">
              <a:lnSpc>
                <a:spcPct val="65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private LinkedList vertices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453240" indent="0">
              <a:lnSpc>
                <a:spcPct val="65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4532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0000D-9200-409E-AD53-5B084851AAA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Assertions are Inherited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In general, assertions are inherited with the features or class to which they apply.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/**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* @invariant count</a:t>
            </a:r>
            <a:r>
              <a:rPr b="0" lang="en-US" sz="1900" spc="-1" strike="noStrike">
                <a:solidFill>
                  <a:srgbClr val="009900"/>
                </a:solidFill>
                <a:latin typeface="Courier New"/>
              </a:rPr>
              <a:t>==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4;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*/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class Rectangle extends Polygon {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public double side1,side2,diagonal;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public double perimeter(){...}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-5281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The invariant of Polygon is </a:t>
            </a:r>
            <a:r>
              <a:rPr b="0" i="1" lang="en-CA" sz="2500" spc="-1" strike="noStrike">
                <a:solidFill>
                  <a:srgbClr val="000066"/>
                </a:solidFill>
                <a:latin typeface="Comic Sans MS"/>
              </a:rPr>
              <a:t>and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-ed to that of Rectangl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-5281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66"/>
                </a:solidFill>
                <a:latin typeface="Comic Sans MS"/>
              </a:rPr>
              <a:t>Question: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 what if </a:t>
            </a:r>
            <a:r>
              <a:rPr b="1" lang="en-CA" sz="2500" spc="-1" strike="noStrike">
                <a:solidFill>
                  <a:srgbClr val="000066"/>
                </a:solidFill>
                <a:latin typeface="Courier New"/>
              </a:rPr>
              <a:t>count==2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 was added to the invariant instead of </a:t>
            </a:r>
            <a:r>
              <a:rPr b="1" lang="en-CA" sz="2500" spc="-1" strike="noStrike">
                <a:solidFill>
                  <a:srgbClr val="000066"/>
                </a:solidFill>
                <a:latin typeface="Courier New"/>
              </a:rPr>
              <a:t>count==4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?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52C57-86E2-4590-8D47-3D75DA78332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6760" y="152280"/>
            <a:ext cx="7913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Assertions and Overriding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Child classes can override method implementations from a parent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But what if the parent method has a contract (that is inherited)?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wo alternatives: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66"/>
                </a:solidFill>
                <a:latin typeface="Comic Sans MS"/>
              </a:rPr>
              <a:t>Replace inherited implementation but keep the contract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e.g., provide a more efficient implementation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e.g., provide a new implementation that does </a:t>
            </a: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more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than the original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66"/>
                </a:solidFill>
                <a:latin typeface="Comic Sans MS"/>
              </a:rPr>
              <a:t>Modify the contract and the implementation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... because the contract may not say exactly what you want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complications will arise with substitution (example)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03DC6-B1DE-4416-8368-B49E6837ED1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Simple Exampl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6480" y="1218960"/>
            <a:ext cx="791532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9900"/>
                </a:solidFill>
                <a:latin typeface="Courier New"/>
              </a:rPr>
              <a:t>// in Polygon, inherited by Rectangle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9900"/>
                </a:solidFill>
                <a:latin typeface="Courier New"/>
              </a:rPr>
              <a:t>/** @pre d&gt;0 */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9900"/>
                </a:solidFill>
                <a:latin typeface="Courier New"/>
              </a:rPr>
              <a:t>public void rotate(double d)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9900"/>
                </a:solidFill>
                <a:latin typeface="Courier New"/>
              </a:rPr>
              <a:t>Polygon p; Rectangle r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9900"/>
                </a:solidFill>
                <a:latin typeface="Courier New"/>
              </a:rPr>
              <a:t>if(d&gt;0) p.rotate(d);  // Polygon’s rotate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9900"/>
                </a:solidFill>
                <a:latin typeface="Courier New"/>
              </a:rPr>
              <a:t>p=r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9900"/>
                </a:solidFill>
                <a:latin typeface="Courier New"/>
              </a:rPr>
              <a:t>if(d&gt;0) p.rotate(d);  // Rectangle’s rotate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7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7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7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7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CA" sz="1700" spc="-1" strike="noStrike">
                <a:solidFill>
                  <a:srgbClr val="009900"/>
                </a:solidFill>
                <a:latin typeface="Courier New"/>
              </a:rPr>
              <a:t>// Check Polygon’s pre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51055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 thoug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a Rectangle, we must check the precondition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olyg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’s version of rot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00FD6-63CC-4878-8BC8-DAFCB68D049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text of this work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present courseware has been elaborated in the context of the MODELWARE European  IST FP6 project (http://www.modelware-ist.org/)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Co-funded by the European Commission, the MODELWARE project involves 19 partners from 8 European countries. MODELWARE aims to improve software productivity by capitalizing on techniques known as Model-Driven Development (MDD)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o achieve the goal of large-scale adoption of these MDD techniques, MODELWARE promotes the idea of a collaborative development of courseware dedicated to this domain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MDD courseware provided here with the status of open source software is produced under the EPL 1.0 license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50" name="" descr="www.modelware-ist.org Forum Inde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05240" y="247680"/>
            <a:ext cx="4838760" cy="138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1110-3739-43B7-BC70-A277CF89623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6760" y="152280"/>
            <a:ext cx="79138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Assertions and Overriding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Contracts </a:t>
            </a:r>
            <a:r>
              <a:rPr b="0" i="1" lang="en-CA" sz="2500" spc="-1" strike="noStrike">
                <a:solidFill>
                  <a:srgbClr val="000066"/>
                </a:solidFill>
                <a:latin typeface="Comic Sans MS"/>
              </a:rPr>
              <a:t>cannot be invalidated or broken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 by overriding, otherwise clients cannot rely on the methods’ result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Thus, the following change  would be illega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3352680"/>
            <a:ext cx="800100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// in parent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// in 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/**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* @pre x&gt;=0;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  * @pre x&gt;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* @post return&gt;=0;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  * @post return&lt;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 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*/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double sqrt(double x);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double sqrt(double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5486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us, you must do at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what the original contract said, but you can also do m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C3D87-7BB8-4E8F-A6A1-C2741965A75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Assertions and Overriding Rul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The inherited contract cannot be broke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The inherited contract may be kept unchanged; this guarantees that it is not broke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66"/>
                </a:solidFill>
                <a:latin typeface="Comic Sans MS"/>
              </a:rPr>
              <a:t>Usage: </a:t>
            </a: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changing implementation details (method body)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The </a:t>
            </a:r>
            <a:r>
              <a:rPr b="1" lang="en-CA" sz="2500" spc="-1" strike="noStrike">
                <a:solidFill>
                  <a:srgbClr val="000066"/>
                </a:solidFill>
                <a:latin typeface="Comic Sans MS"/>
              </a:rPr>
              <a:t>@pre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 may be replaced by a </a:t>
            </a:r>
            <a:r>
              <a:rPr b="0" i="1" lang="en-CA" sz="2500" spc="-1" strike="noStrike">
                <a:solidFill>
                  <a:srgbClr val="000066"/>
                </a:solidFill>
                <a:latin typeface="Comic Sans MS"/>
              </a:rPr>
              <a:t>weaker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 on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The </a:t>
            </a:r>
            <a:r>
              <a:rPr b="1" lang="en-CA" sz="2500" spc="-1" strike="noStrike">
                <a:solidFill>
                  <a:srgbClr val="000066"/>
                </a:solidFill>
                <a:latin typeface="Comic Sans MS"/>
              </a:rPr>
              <a:t>@post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 may be replaced by a </a:t>
            </a:r>
            <a:r>
              <a:rPr b="0" i="1" lang="en-CA" sz="2500" spc="-1" strike="noStrike">
                <a:solidFill>
                  <a:srgbClr val="000066"/>
                </a:solidFill>
                <a:latin typeface="Comic Sans MS"/>
              </a:rPr>
              <a:t>stronger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 on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Rules 3/4 imply that if you want to change the contract under inheritance, you can replace it with a </a:t>
            </a:r>
            <a:r>
              <a:rPr b="0" i="1" lang="en-CA" sz="2500" spc="-1" strike="noStrike">
                <a:solidFill>
                  <a:srgbClr val="000066"/>
                </a:solidFill>
                <a:latin typeface="Comic Sans MS"/>
              </a:rPr>
              <a:t>subcontract: 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every behaviour of the new contract satisfies the origina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Exampl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CAA4C-7FC4-45B3-8138-F885CD27AD1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Class IntSe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public void addZero(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/** @pre this is not empty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* @post add 0 to thi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*/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In a child of IntSet, e.g., Child_IntSe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public void addZero(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/** @pre true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* @post add 0 to this and add 1 to the      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          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number_of_element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*/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8D289-DA58-4010-B9A7-0F607F81C68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Why This Work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9900"/>
                </a:solidFill>
                <a:latin typeface="Courier New"/>
              </a:rPr>
              <a:t>IntSet i = new IntSet(…);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9900"/>
                </a:solidFill>
                <a:latin typeface="Courier New"/>
              </a:rPr>
              <a:t>Child_IntSet c = new …;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9900"/>
                </a:solidFill>
                <a:latin typeface="Courier New"/>
              </a:rPr>
              <a:t>i = c;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9900"/>
                </a:solidFill>
                <a:latin typeface="Courier New"/>
              </a:rPr>
              <a:t>if(            ) { c.addZero(); }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9900"/>
                </a:solidFill>
                <a:latin typeface="Courier New"/>
              </a:rPr>
              <a:t>if(            ) { i.addZero(); }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Checking the precondition for IntSet’s version is sufficient to guarantee that the precondition for the child is also true.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What should go into the conditions for the ifs?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1AC4B-59B9-4DD0-9FA1-112EC11965C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6760" y="152280"/>
            <a:ext cx="79138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Example - Matrix Inversion Routin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/** Version in parent class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 @pre epsilon&gt;= pow(10.0,-6)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 @post</a:t>
            </a:r>
            <a:r>
              <a:rPr b="1" lang="en-CA" sz="1700" spc="-1" strike="noStrike">
                <a:solidFill>
                  <a:srgbClr val="0099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det(sub(mult(this,inverse),identity))&lt;=epsilon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/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double invert(double epsilon)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===================================================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/** Version in subclass; weaker @pre, stronger @post.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 @pre epsilon &gt;= pow(10.0,-20.0); 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 @post det(sub(mult(this,inverse),identity))&lt;=epsilon/2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/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double invert(double epsilon)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12EE3-0E7B-4E9F-80D6-D495E56A91A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Using Subcontracting Efficiently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A compiler has to check that preconditions are weakened, postconditions strengthened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Inefficient for real program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Efficient implementation: use a low-tech language convention based on the observations that for assertions 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α, β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α </a:t>
            </a:r>
            <a:r>
              <a:rPr b="1" lang="en-CA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mplies</a:t>
            </a:r>
            <a:r>
              <a:rPr b="0" lang="en-CA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(α </a:t>
            </a:r>
            <a:r>
              <a:rPr b="1" lang="en-CA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or</a:t>
            </a:r>
            <a:r>
              <a:rPr b="0" lang="en-CA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γ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(β </a:t>
            </a:r>
            <a:r>
              <a:rPr b="1" lang="en-CA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nd</a:t>
            </a:r>
            <a:r>
              <a:rPr b="0" lang="en-CA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γ) </a:t>
            </a:r>
            <a:r>
              <a:rPr b="1" lang="en-CA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mplies</a:t>
            </a:r>
            <a:r>
              <a:rPr b="0" lang="en-CA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β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.e., accept weaker preconditions only in form (α </a:t>
            </a:r>
            <a:r>
              <a:rPr b="1" lang="en-CA" sz="25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or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γ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ccept stronger postconditions only in form (β </a:t>
            </a:r>
            <a:r>
              <a:rPr b="1" lang="en-CA" sz="25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nd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γ)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4520F-29CA-4BEC-A7D3-DBA2754C0AA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Language Suppor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In iContract-annotated Java this convention is implemented as follows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In overridden method, only specify the </a:t>
            </a:r>
            <a:r>
              <a:rPr b="1" i="1" lang="en-CA" sz="2000" spc="-1" strike="noStrike">
                <a:solidFill>
                  <a:srgbClr val="000066"/>
                </a:solidFill>
                <a:latin typeface="Comic Sans MS"/>
              </a:rPr>
              <a:t>new</a:t>
            </a: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 clause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New </a:t>
            </a:r>
            <a:r>
              <a:rPr b="1" lang="en-CA" sz="2000" spc="-1" strike="noStrike">
                <a:solidFill>
                  <a:srgbClr val="000066"/>
                </a:solidFill>
                <a:latin typeface="Comic Sans MS"/>
              </a:rPr>
              <a:t>@pre </a:t>
            </a: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clauses are automatically </a:t>
            </a:r>
            <a:r>
              <a:rPr b="1" lang="en-CA" sz="2000" spc="-1" strike="noStrike">
                <a:solidFill>
                  <a:srgbClr val="000066"/>
                </a:solidFill>
                <a:latin typeface="Comic Sans MS"/>
              </a:rPr>
              <a:t>or</a:t>
            </a: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-ed with any inherited precondition clause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New </a:t>
            </a:r>
            <a:r>
              <a:rPr b="1" lang="en-CA" sz="2000" spc="-1" strike="noStrike">
                <a:solidFill>
                  <a:srgbClr val="000066"/>
                </a:solidFill>
                <a:latin typeface="Comic Sans MS"/>
              </a:rPr>
              <a:t>@post</a:t>
            </a: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 clauses are automatically </a:t>
            </a:r>
            <a:r>
              <a:rPr b="1" lang="en-CA" sz="2000" spc="-1" strike="noStrike">
                <a:solidFill>
                  <a:srgbClr val="000066"/>
                </a:solidFill>
                <a:latin typeface="Comic Sans MS"/>
              </a:rPr>
              <a:t>and</a:t>
            </a: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-ed with any inherited postcondition clause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Overridden contract is automatically a subcontract, and no theorem proving needs to be don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BBDD2-D51D-403B-AE03-76B988F8623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Design by Contract in UM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UML is primarily a graphical notatio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Use</a:t>
            </a: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text for labels and name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ext is also used for writing 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constraint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66"/>
                </a:solidFill>
                <a:latin typeface="Comic Sans MS"/>
              </a:rPr>
              <a:t>Constraint = </a:t>
            </a:r>
            <a:r>
              <a:rPr b="0" lang="en-CA" sz="1800" spc="-1" strike="noStrike">
                <a:solidFill>
                  <a:srgbClr val="000066"/>
                </a:solidFill>
                <a:latin typeface="Comic Sans MS"/>
              </a:rPr>
              <a:t>a restriction on state values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Types are a form of constraint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Constraints will be how we support design by contract in UML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nstraints are also useful for resolving limitations with UML’s expressivenes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B08C3-1962-4C63-9219-CFDBB9FE2B7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A Motivation for Constraint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3603240"/>
            <a:ext cx="8458200" cy="25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The Video Controller cannot be simultaneously in playback mode and record mod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If it is in playback mode, the Tape Controller is in read/write mod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Cannot capture this easily and formally in pure UM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218280" cy="117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30580-4964-460F-9EA1-1577F1354E1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Notes and Informal Constraint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20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UML supports an informal notion of constraint, called a </a:t>
            </a:r>
            <a:r>
              <a:rPr b="1" i="1" lang="en-GB" sz="2500" spc="-1" strike="noStrike" u="sng">
                <a:solidFill>
                  <a:srgbClr val="000066"/>
                </a:solidFill>
                <a:uFillTx/>
                <a:latin typeface="Comic Sans MS"/>
              </a:rPr>
              <a:t>note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: any piece of informatio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 note is a string attached to a model element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17600" y="3029040"/>
            <a:ext cx="4876920" cy="1090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00000" y="4187880"/>
            <a:ext cx="73915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no restrictions on what can go in a 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write formal (machine-checkable) constraints, use the standard constraint language OC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D57EA-B24B-4BD4-BBE1-1213270CCC1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Assertio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An </a:t>
            </a:r>
            <a:r>
              <a:rPr b="1" i="1" lang="en-CA" sz="2100" spc="-1" strike="noStrike">
                <a:solidFill>
                  <a:srgbClr val="000066"/>
                </a:solidFill>
                <a:latin typeface="Comic Sans MS"/>
              </a:rPr>
              <a:t>assertion</a:t>
            </a: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 is a boolean expression or predicate that evaluates to </a:t>
            </a:r>
            <a:r>
              <a:rPr b="0" i="1" lang="en-CA" sz="2100" spc="-1" strike="noStrike">
                <a:solidFill>
                  <a:srgbClr val="000066"/>
                </a:solidFill>
                <a:latin typeface="Comic Sans MS"/>
              </a:rPr>
              <a:t>true </a:t>
            </a: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or </a:t>
            </a:r>
            <a:r>
              <a:rPr b="0" i="1" lang="en-CA" sz="2100" spc="-1" strike="noStrike">
                <a:solidFill>
                  <a:srgbClr val="000066"/>
                </a:solidFill>
                <a:latin typeface="Comic Sans MS"/>
              </a:rPr>
              <a:t>false</a:t>
            </a: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 in every state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In the context of a program, assertions express constraints on program state that </a:t>
            </a:r>
            <a:r>
              <a:rPr b="0" i="1" lang="en-CA" sz="2100" spc="-1" strike="noStrike">
                <a:solidFill>
                  <a:srgbClr val="000066"/>
                </a:solidFill>
                <a:latin typeface="Comic Sans MS"/>
              </a:rPr>
              <a:t>must be true</a:t>
            </a: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 at a specified point during execution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Comic Sans MS"/>
              </a:rPr>
              <a:t>In a model/diagram, they document what must be true of an implementation of the modelling element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Assertions are typically associated with methods, classes, and even individual program statements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They are useful for: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Comic Sans MS"/>
              </a:rPr>
              <a:t>helping to write correct software, since they specify what is expected behaviour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Comic Sans MS"/>
              </a:rPr>
              <a:t>documentation of interfaces, and for debugging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Comic Sans MS"/>
              </a:rPr>
              <a:t>to improve fault tolerance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E3CE7-C00E-48F1-B9CD-722ECE218F6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OCL (Object Constraint Language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he constraint/assertion language for UM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Used for writing general constraints on models, and also for design-by-contract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Can be applied to any modelling element, not just classe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0066"/>
                </a:solidFill>
                <a:uFillTx/>
                <a:latin typeface="Comic Sans MS"/>
              </a:rPr>
              <a:t>Issues with OCL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programming language-like syntax (similar to C++)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“</a:t>
            </a: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easy to use” by non-formalist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cumbersome in places, can be difficult to support (type check, model check) using tool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Used widely in the UML metamode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86562-BECD-42B9-8224-949169D15E1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OCL - Essential Capabiliti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Specifying which model element is to be constrained (the </a:t>
            </a:r>
            <a:r>
              <a:rPr b="1" lang="en-GB" sz="2500" spc="-1" strike="noStrike" u="sng">
                <a:solidFill>
                  <a:srgbClr val="000066"/>
                </a:solidFill>
                <a:uFillTx/>
                <a:latin typeface="Comic Sans MS"/>
              </a:rPr>
              <a:t>context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)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Navigating through models to identify objects that are relevant to a constraint (</a:t>
            </a:r>
            <a:r>
              <a:rPr b="1" lang="en-GB" sz="2500" spc="-1" strike="noStrike" u="sng">
                <a:solidFill>
                  <a:srgbClr val="000066"/>
                </a:solidFill>
                <a:uFillTx/>
                <a:latin typeface="Comic Sans MS"/>
              </a:rPr>
              <a:t>navigation expressions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)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Can constrain values of attributes and related object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sserting properties about relationships between objects (</a:t>
            </a:r>
            <a:r>
              <a:rPr b="1" lang="en-GB" sz="2500" spc="-1" strike="noStrike" u="sng">
                <a:solidFill>
                  <a:srgbClr val="000066"/>
                </a:solidFill>
                <a:uFillTx/>
                <a:latin typeface="Comic Sans MS"/>
              </a:rPr>
              <a:t>expressions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)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E9EC-BACB-49AE-92E7-6C07F454497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OCL Contex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OCL constraints are usually written textually, separate from the graphical UML mode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Consider a Bank Account class with an integer </a:t>
            </a:r>
            <a:r>
              <a:rPr b="1" lang="en-GB" sz="2500" spc="-1" strike="noStrike">
                <a:solidFill>
                  <a:srgbClr val="000066"/>
                </a:solidFill>
                <a:latin typeface="Courier New"/>
              </a:rPr>
              <a:t>balanc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OCL constraint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context</a:t>
            </a:r>
            <a:r>
              <a:rPr b="1" lang="en-GB" sz="21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GB" sz="1900" spc="-1" strike="noStrike">
                <a:solidFill>
                  <a:srgbClr val="009900"/>
                </a:solidFill>
                <a:latin typeface="Courier New"/>
              </a:rPr>
              <a:t>Bank Account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 inv: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1900" spc="-1" strike="noStrike">
                <a:solidFill>
                  <a:srgbClr val="009900"/>
                </a:solidFill>
                <a:latin typeface="Courier New"/>
              </a:rPr>
              <a:t>self.balance&gt;=0 and self.balance&lt;=250,000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he constraint applies in the context of the class Bank Account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16BF-F99B-4A28-9278-B218F239CF8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Navigation Expressio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OCL provides the means for referring to objects that are linked to a specified </a:t>
            </a:r>
            <a:r>
              <a:rPr b="0" i="1" lang="en-GB" sz="2500" spc="-1" strike="noStrike">
                <a:solidFill>
                  <a:srgbClr val="000066"/>
                </a:solidFill>
                <a:latin typeface="Comic Sans MS"/>
              </a:rPr>
              <a:t>context object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Linked objects are obtained starting from the context object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Links are followed to gain access to other objects of interest (similar to references in Java/C++/Eiffel)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Complexity arises when collections (e.g., sets, sequences, bags, etc.) are navigated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Personnel system running example..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D821F-8F82-413C-8BEB-B3B3466F35B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Example - Personnel System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8029440" cy="43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849B1-01A9-4CCC-BFC7-EFE43B9A02A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Following Link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Basic form of navigation involves following links from one object to another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Specify by giving names of associations to be traversed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Denote set of employees working in department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context</a:t>
            </a:r>
            <a:r>
              <a:rPr b="1" lang="en-GB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GB" sz="1900" spc="-1" strike="noStrike">
                <a:solidFill>
                  <a:srgbClr val="009900"/>
                </a:solidFill>
                <a:latin typeface="Courier New"/>
              </a:rPr>
              <a:t>Department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 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19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19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1900" spc="-1" strike="noStrike">
                <a:solidFill>
                  <a:srgbClr val="009900"/>
                </a:solidFill>
                <a:latin typeface="Courier New"/>
              </a:rPr>
              <a:t>self.staff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If association has no role name, use name of class at far end of association (unless it is ambiguous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99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9900"/>
                </a:solidFill>
                <a:latin typeface="Courier New"/>
              </a:rPr>
              <a:t>context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Company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9900"/>
                </a:solidFill>
                <a:latin typeface="Courier New"/>
              </a:rPr>
              <a:t>            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self.department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66917-3ED6-48D1-BEA5-D8CA725D1E1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Names and Constraint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n OCL invariant need not be applicable to any instance (i.e., </a:t>
            </a: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self)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context bart : Person inv: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bart.age == 10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n OCL invariant may optionally be given a name; the name can be used by simulators, debuggers, and in documentatio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context bart : Person inv how_old: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bart.age == 10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75211-911F-4AC6-82AB-41ECA117C4B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Basic Values and Typ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CL supports a number of basic types and typical operations upon them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.g., Boolean, Integer, Real, String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llection, Set, Bag, Sequence, and Tuple are basic types as wel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Iterative operations and operators will be defined shortly for making use of thes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Every class appearing in a UML model can also be used as an OCL typ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ype conformance rules are as in UML, i.e.,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ypes conform to supertype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Set, Bag, and Sequence conform to Collection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DD50E-25CB-416D-88A7-F32D1B90F4E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redefined Operatio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vailable on all objects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oclIsTypeOf(t:OclType):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true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if 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self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and 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t 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are the sam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oclInState(s:OclState):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true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if 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self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is in the state specified by 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. 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s 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is the name of some state in the statechart for the clas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oclIsNew():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true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if used in a postcondition and the object is created by the operation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casting (next slide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76638-3734-4C57-9371-9FF669A002F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asting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or better or for worse, casting (re-typing) is permitted in OC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n object may be cast to one of its subtypes if it is known that the object’s dynamic type is that of a subtyp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Use the </a:t>
            </a: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oclAsType(OclType) 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peratio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Example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homer.oclAsType(Employee)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reats </a:t>
            </a:r>
            <a:r>
              <a:rPr b="1" lang="en-US" sz="2500" spc="-1" strike="noStrike">
                <a:solidFill>
                  <a:srgbClr val="009900"/>
                </a:solidFill>
                <a:latin typeface="Courier New"/>
              </a:rPr>
              <a:t>homer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as an Employee, not a Perso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F39A-C810-4866-8789-794ADFEF135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Pre- and Postconditio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Assertions associated with methods of a clas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500" spc="-1" strike="noStrike">
                <a:solidFill>
                  <a:srgbClr val="000066"/>
                </a:solidFill>
                <a:latin typeface="Comic Sans MS"/>
              </a:rPr>
              <a:t>Precondition: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 properties that must be true when the method is called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500" spc="-1" strike="noStrike">
                <a:solidFill>
                  <a:srgbClr val="000066"/>
                </a:solidFill>
                <a:latin typeface="Comic Sans MS"/>
              </a:rPr>
              <a:t>Postcondition: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 properties that must be true when the method returns safely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Can both be optional (</a:t>
            </a:r>
            <a:r>
              <a:rPr b="0" i="1" lang="en-CA" sz="2500" spc="-1" strike="noStrike">
                <a:solidFill>
                  <a:srgbClr val="000066"/>
                </a:solidFill>
                <a:latin typeface="Comic Sans MS"/>
              </a:rPr>
              <a:t>true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)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An optional precondition: “there are no constraints on calling this method”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An optional postcondition: “the method body can do anything (but it must terminate)”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A3722-FED9-4842-A009-22C5E38ABED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hree-Valued Logic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e logic for OCL is actually 3-valued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n expression can evaluate to </a:t>
            </a: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true, false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, or </a:t>
            </a: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undefined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Examples: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an illegal cast returns undefined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aking the first() element of an empty sequence is undefined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How does this affect the truth tables for expressions?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n expression is undefined if one of its arguments is undefined, except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true 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OR 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anything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is 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tru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false 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AND 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anything 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is 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fals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false 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IMPLIES 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anything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is 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true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759B9-00D1-49D8-9234-D3858820753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6760" y="152280"/>
            <a:ext cx="7913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Collectio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A navigation expression denotes the objects retrieved by following links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Depending on multiplicities of associations, the number of objects retrieved may vary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context</a:t>
            </a:r>
            <a:r>
              <a:rPr b="0" lang="en-GB" sz="21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en-GB" sz="1700" spc="-1" strike="noStrike">
                <a:solidFill>
                  <a:srgbClr val="009900"/>
                </a:solidFill>
                <a:latin typeface="Courier New"/>
              </a:rPr>
              <a:t>Person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17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17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1700" spc="-1" strike="noStrike">
                <a:solidFill>
                  <a:srgbClr val="009900"/>
                </a:solidFill>
                <a:latin typeface="Courier New"/>
              </a:rPr>
              <a:t>self.department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This retrieves one object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A navigation expression that can return more than one object returns a </a:t>
            </a:r>
            <a:r>
              <a:rPr b="1" i="1" lang="en-GB" sz="2100" spc="-1" strike="noStrike" u="sng">
                <a:solidFill>
                  <a:srgbClr val="000066"/>
                </a:solidFill>
                <a:uFillTx/>
                <a:latin typeface="Comic Sans MS"/>
              </a:rPr>
              <a:t>collection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 (a set or a bag)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905040" indent="-4525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Iterated traversals produce bags; single traversals produce sets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Collections may be nested (earlier versions of OCL flattened all collections, e.g., OCL 1.x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81D2-CF95-4DD4-ADC1-7651CF39051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Iterated Traversa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Navigations can be composed; more complicated paths through a diagram can be denoted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ll the people who work for a company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context</a:t>
            </a:r>
            <a:r>
              <a:rPr b="0" lang="en-GB" sz="25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en-GB" sz="1900" spc="-1" strike="noStrike">
                <a:solidFill>
                  <a:srgbClr val="009900"/>
                </a:solidFill>
                <a:latin typeface="Courier New"/>
              </a:rPr>
              <a:t>Company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19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19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1900" spc="-1" strike="noStrike">
                <a:solidFill>
                  <a:srgbClr val="009900"/>
                </a:solidFill>
                <a:latin typeface="Courier New"/>
              </a:rPr>
              <a:t>self.department.staff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Evaluate in a step-by-step manner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self.department</a:t>
            </a: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 gives a </a:t>
            </a:r>
            <a:r>
              <a:rPr b="0" i="1" lang="en-GB" sz="2000" spc="-1" strike="noStrike">
                <a:solidFill>
                  <a:srgbClr val="000066"/>
                </a:solidFill>
                <a:latin typeface="Comic Sans MS"/>
              </a:rPr>
              <a:t>set</a:t>
            </a: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 of department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staff</a:t>
            </a: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 is then applied to each element of the set, producing a </a:t>
            </a:r>
            <a:r>
              <a:rPr b="0" i="1" lang="en-GB" sz="2000" spc="-1" strike="noStrike">
                <a:solidFill>
                  <a:srgbClr val="000066"/>
                </a:solidFill>
                <a:latin typeface="Comic Sans MS"/>
              </a:rPr>
              <a:t>bag</a:t>
            </a: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 of people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12C1-6BA8-44F6-8609-A9D005E4382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Operations on Objects and Collectio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Operations and attributes defined for classes in a model can be used in OCL expressions, e.g.,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2100" spc="-1" strike="noStrike">
                <a:solidFill>
                  <a:srgbClr val="009900"/>
                </a:solidFill>
                <a:latin typeface="Courier New"/>
              </a:rPr>
              <a:t>context 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Person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self.age() 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self.contract.grade.salary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Collections come with some built-in operations, accessed using </a:t>
            </a:r>
            <a:r>
              <a:rPr b="0" lang="en-GB" sz="2500" spc="-1" strike="noStrike">
                <a:solidFill>
                  <a:srgbClr val="009900"/>
                </a:solidFill>
                <a:latin typeface="Comic Sans MS"/>
              </a:rPr>
              <a:t>-&gt;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, typically producing bag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sum(): applicable to numeric collection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context</a:t>
            </a:r>
            <a:r>
              <a:rPr b="0" lang="en-GB" sz="2000" spc="-1" strike="noStrike">
                <a:solidFill>
                  <a:srgbClr val="0099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Department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inv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29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self.staff.contract.grade.salary-&gt;sum(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asSet(): converts bags to sets, removing duplicate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self</a:t>
            </a:r>
            <a:r>
              <a:rPr b="1" lang="en-GB" sz="1800" spc="-1" strike="noStrike">
                <a:solidFill>
                  <a:srgbClr val="009900"/>
                </a:solidFill>
                <a:latin typeface="Courier New"/>
              </a:rPr>
              <a:t>.</a:t>
            </a: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staff.contract.grade-&gt;asSet()-&gt;size(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F943-86F7-4D48-97AC-33579BB43D05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Select’ on Collectio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 built-in operation for picking out specific objects from larger collections (a quantifier)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0066"/>
                </a:solidFill>
                <a:uFillTx/>
                <a:latin typeface="Comic Sans MS"/>
              </a:rPr>
              <a:t>Example: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 all employees with a salary greater than £50,000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context </a:t>
            </a:r>
            <a:r>
              <a:rPr b="1" lang="en-GB" sz="1700" spc="-1" strike="noStrike">
                <a:solidFill>
                  <a:srgbClr val="009900"/>
                </a:solidFill>
                <a:latin typeface="Courier New"/>
              </a:rPr>
              <a:t>Company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inv: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9900"/>
                </a:solidFill>
                <a:latin typeface="Courier New"/>
              </a:rPr>
              <a:t>employees-&gt;select(p:Person|p.contract.grade.salary&gt;50000)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Can define further navigations on the result of the </a:t>
            </a:r>
            <a:r>
              <a:rPr b="1" lang="en-GB" sz="2500" spc="-1" strike="noStrike">
                <a:solidFill>
                  <a:srgbClr val="000066"/>
                </a:solidFill>
                <a:latin typeface="Courier New"/>
              </a:rPr>
              <a:t>select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hink of OCL quantifiers as iterators over data structures (ie., operationally)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8999B-EA16-4F00-8340-9DF9662CF61D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Collect’ on Collectio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he collect operation takes an expression and returns a bag containing all values of expressio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2100" spc="-1" strike="noStrike">
                <a:solidFill>
                  <a:srgbClr val="009900"/>
                </a:solidFill>
                <a:latin typeface="Courier New"/>
              </a:rPr>
              <a:t>context</a:t>
            </a:r>
            <a:r>
              <a:rPr b="0" lang="en-GB" sz="25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Department</a:t>
            </a:r>
            <a:r>
              <a:rPr b="1" lang="en-US" sz="2100" spc="-1" strike="noStrike">
                <a:solidFill>
                  <a:srgbClr val="009900"/>
                </a:solidFill>
                <a:latin typeface="Courier New"/>
              </a:rPr>
              <a:t> inv: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staff-&gt;collect(p:Person | p.age()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Returns ages of all employees in a department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void dropping name and type of bound variables - can easily lead to ambiguity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OCL guide is careless on this!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714C4-F3F8-47AB-B227-AADB63802E7A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Basic Constraint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Comic Sans MS"/>
              </a:rPr>
              <a:t>OCL can be used to write arbitrarily complex constraints. 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Comic Sans MS"/>
              </a:rPr>
              <a:t>Some </a:t>
            </a: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invariant </a:t>
            </a:r>
            <a:r>
              <a:rPr b="0" lang="en-GB" sz="2900" spc="-1" strike="noStrike">
                <a:solidFill>
                  <a:srgbClr val="000066"/>
                </a:solidFill>
                <a:latin typeface="Comic Sans MS"/>
              </a:rPr>
              <a:t>examples in context </a:t>
            </a:r>
            <a:r>
              <a:rPr b="1" lang="en-GB" sz="2500" spc="-1" strike="noStrike">
                <a:solidFill>
                  <a:srgbClr val="000066"/>
                </a:solidFill>
                <a:latin typeface="Courier New"/>
              </a:rPr>
              <a:t>Pers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self.employer = self.department.company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employer.grade-&gt;includes(contract.grade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age()&gt;50 implies </a:t>
            </a: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contract.grade.salary&gt;25000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Some 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invariant 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examples in context </a:t>
            </a:r>
            <a:r>
              <a:rPr b="1" lang="en-GB" sz="2500" spc="-1" strike="noStrike">
                <a:solidFill>
                  <a:srgbClr val="000066"/>
                </a:solidFill>
                <a:latin typeface="Courier New"/>
              </a:rPr>
              <a:t>Company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employees-&gt;select(age()&lt;18)-&gt;isEmpty(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grade-&gt;forAll(g:Grade|not g.contract-&gt; </a:t>
            </a: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9900"/>
                </a:solidFill>
                <a:latin typeface="Courier New"/>
              </a:rPr>
              <a:t>isEmpty()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Correspond to class invariant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1A725-C7A5-4C6A-8E05-134227D91F54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Iterative Constraint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Select is an iterative constraint defined on a collectio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0066"/>
                </a:solidFill>
                <a:uFillTx/>
                <a:latin typeface="Comic Sans MS"/>
              </a:rPr>
              <a:t>Others include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Courier New"/>
              </a:rPr>
              <a:t>forAll</a:t>
            </a: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: return true if every member of collection satisfies the boolean expression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Courier New"/>
              </a:rPr>
              <a:t>exists</a:t>
            </a: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: true if there is one member of the collection satisfying the boolean expression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Courier New"/>
              </a:rPr>
              <a:t>allInstances</a:t>
            </a: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: returns all instances of a type, e.g.,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Courier New"/>
              </a:rPr>
              <a:t>Grade.allInstances-&gt;forAll(g:Grade | g.salary&gt;20000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Use allInstances very carefully! It’s not always necessary to use it (e.g., as in above example), and it is often difficult to implement it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6C454-8CC4-4571-BF0C-D4FC06C61DE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Using ‘forAll’ and ‘exists’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66"/>
                </a:solidFill>
                <a:latin typeface="Comic Sans MS"/>
              </a:rPr>
              <a:t>At least one employee appointed at every grade in the company.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100" spc="-1" strike="noStrike">
                <a:solidFill>
                  <a:srgbClr val="009900"/>
                </a:solidFill>
                <a:latin typeface="Courier New"/>
              </a:rPr>
              <a:t>context Company inv: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100" spc="-1" strike="noStrike">
                <a:solidFill>
                  <a:srgbClr val="009900"/>
                </a:solidFill>
                <a:latin typeface="Courier New"/>
              </a:rPr>
              <a:t>grade-&gt;forAll(g:Grade|not g.contract-&gt;isEmpty()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66"/>
                </a:solidFill>
                <a:latin typeface="Comic Sans MS"/>
              </a:rPr>
              <a:t>Every department has a head (i.e., an employee with no manager).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100" spc="-1" strike="noStrike">
                <a:solidFill>
                  <a:srgbClr val="009900"/>
                </a:solidFill>
                <a:latin typeface="Courier New"/>
              </a:rPr>
              <a:t>context Department inv: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100" spc="-1" strike="noStrike">
                <a:solidFill>
                  <a:srgbClr val="009900"/>
                </a:solidFill>
                <a:latin typeface="Courier New"/>
              </a:rPr>
              <a:t>staff-&gt;exists(e:Employee | e.manager-&gt;isEmpty()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BE02C-86CE-4675-9E5E-6A8EACBE0A4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Using ‘allInstances’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It is not necessary to use allInstances in the previous exampl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The constraint expresses that salary must be at least 20000 in all grades. So put the constraint with the appropriate class! 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009900"/>
                </a:solidFill>
                <a:latin typeface="Courier New"/>
              </a:rPr>
              <a:t>context Grade inv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009900"/>
                </a:solidFill>
                <a:latin typeface="Courier New"/>
              </a:rPr>
              <a:t>self.salary &gt; 20000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When might allInstances be useful?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Comic Sans MS"/>
              </a:rPr>
              <a:t>Specifying a change in the objects known to a system (e.g., the result of new or malloc, or the addition of a new object from outside the system)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80DF2-2981-480F-80F6-8D960CAF6B6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Example: Assertions for a Stack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3120" y="1390680"/>
            <a:ext cx="791352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public class IntStack {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private int[] contents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public int capacity, count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//** 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 @pre not empty()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/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public int top()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public boolean empty(){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public boolean full(){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F387C-DF41-4F31-AD31-7BE4A62C71A4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Pre/Postconditio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Preconditions are standard OCL constraints that can refer to arguments and the prestate of an operatio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Postconditions can refer to arguments, the prestate, the result of a function, and the poststate of an operatio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Comic Sans MS"/>
              </a:rPr>
              <a:t>@pre</a:t>
            </a: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: value of an expression evaluated in a prestat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Comic Sans MS"/>
              </a:rPr>
              <a:t>result</a:t>
            </a: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: the value returned by a function call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Example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2100" spc="-1" strike="noStrike">
                <a:solidFill>
                  <a:srgbClr val="009900"/>
                </a:solidFill>
                <a:latin typeface="Courier New"/>
              </a:rPr>
              <a:t>context</a:t>
            </a:r>
            <a:r>
              <a:rPr b="0" lang="en-GB" sz="25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Savings_Account::withdraw(int amount</a:t>
            </a:r>
            <a:r>
              <a:rPr b="1" lang="en-US" sz="2100" spc="-1" strike="noStrike">
                <a:solidFill>
                  <a:srgbClr val="009900"/>
                </a:solidFill>
                <a:latin typeface="Courier New"/>
              </a:rPr>
              <a:t>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pre: amount &lt;= balance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GB" sz="2100" spc="-1" strike="noStrike">
                <a:solidFill>
                  <a:srgbClr val="009900"/>
                </a:solidFill>
                <a:latin typeface="Courier New"/>
              </a:rPr>
              <a:t>post: balance = balance@pre-amount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76DBB-3AE0-4E06-8884-55390C44C743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Design by Contrac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he usual laws of design by contract should be followed with UML and OCL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preconditions may be </a:t>
            </a:r>
            <a:r>
              <a:rPr b="1" i="1" lang="en-GB" sz="2000" spc="-1" strike="noStrike">
                <a:solidFill>
                  <a:srgbClr val="000066"/>
                </a:solidFill>
                <a:latin typeface="Comic Sans MS"/>
              </a:rPr>
              <a:t>weakened</a:t>
            </a: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 (‘or’ new clauses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postconditions may be </a:t>
            </a:r>
            <a:r>
              <a:rPr b="1" i="1" lang="en-GB" sz="2000" spc="-1" strike="noStrike">
                <a:solidFill>
                  <a:srgbClr val="000066"/>
                </a:solidFill>
                <a:latin typeface="Comic Sans MS"/>
              </a:rPr>
              <a:t>strengthened</a:t>
            </a: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 (‘and’ new clauses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new clauses may be </a:t>
            </a:r>
            <a:r>
              <a:rPr b="1" i="1" lang="en-GB" sz="2000" spc="-1" strike="noStrike">
                <a:solidFill>
                  <a:srgbClr val="000066"/>
                </a:solidFill>
                <a:latin typeface="Comic Sans MS"/>
              </a:rPr>
              <a:t>and-ed</a:t>
            </a: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 to the invariant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OCL does not require that you follow these rules, but it is strongly recommended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Modified contracts must maintain consistency!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1866E-560A-40E9-B98D-F779A86670CB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Generali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z</a:t>
            </a: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ation and OC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Generali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z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tion relationships are not navigable - they do not usually feature in writing constraint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But generalizations may be </a:t>
            </a:r>
            <a:r>
              <a:rPr b="0" i="1" lang="en-GB" sz="2500" spc="-1" strike="noStrike">
                <a:solidFill>
                  <a:srgbClr val="000066"/>
                </a:solidFill>
                <a:latin typeface="Comic Sans MS"/>
              </a:rPr>
              <a:t>constrained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66"/>
                </a:solidFill>
                <a:latin typeface="Comic Sans MS"/>
              </a:rPr>
              <a:t>Example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: a Customer must hold at least one Current account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903320" y="3770280"/>
            <a:ext cx="5740560" cy="185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6E99B-F311-410A-9A91-A8768913B252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Messages and Signal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OCL 2.0 now supports messages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Messages can be sent to objects, and correspond either to </a:t>
            </a: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operation calls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 or </a:t>
            </a: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signals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 in a UML model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Signals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 are the simplest form of inter-object communication in UML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ink of a signal as a class (with attributes, operations, etc) that represents communication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A signal will be instantiated (with values for attributes) and can generate state transitions in its recipient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In a UML model, a signal is drawn as a class with a &lt;&lt;signal&gt;&gt; stereotype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Examples: InputEvent, MouseButtonUp, MouseButtonDown, etc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467D4-659E-4087-BFC0-4CBE7AF8C5BC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Sending Signal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o specify that communication has taken place, use the </a:t>
            </a: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hasSent 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perator ^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Example: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context Subject::hasChanged()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9900"/>
                </a:solidFill>
                <a:latin typeface="Courier New"/>
              </a:rPr>
              <a:t>post: observer^update(12,14)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e </a:t>
            </a: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hasSent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results in </a:t>
            </a: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true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if an </a:t>
            </a: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update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message with the specified arguments was sent to </a:t>
            </a: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observer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during execution of the operatio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rguments can be omitted (replace with ?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2686C-2755-4E85-B866-0BB47CF47DDB}" type="slidenum">
              <a:t>54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Stack Assertions, Continued...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43120" y="1560600"/>
            <a:ext cx="79135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//**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 @pre not empty()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 @post count==count@pre-1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/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public void pop()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//** 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 @pre not full()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 @post top()==x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 @post count==count@pre+1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 @post contents[count]==x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*/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public void push(int x);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      </a:t>
            </a:r>
            <a:r>
              <a:rPr b="1" lang="en-US" sz="17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6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8116F-2443-4985-8338-36F6AC64490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Assertions in Java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Java (1.4+) supports very primitive assertions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The Java iContract package is a preprocessor that provides very substantial support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9900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9900"/>
                </a:solidFill>
                <a:latin typeface="Courier New"/>
              </a:rPr>
              <a:t>www.reliable-systems.com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Supports three main types of assertions: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66"/>
                </a:solidFill>
                <a:latin typeface="Comic Sans MS"/>
              </a:rPr>
              <a:t>@pre, @post, @invariant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100" spc="-1" strike="noStrike">
                <a:solidFill>
                  <a:srgbClr val="000066"/>
                </a:solidFill>
                <a:latin typeface="Comic Sans MS"/>
              </a:rPr>
              <a:t>@pre </a:t>
            </a:r>
            <a:r>
              <a:rPr b="0" i="1" lang="en-CA" sz="2100" spc="-1" strike="noStrike">
                <a:solidFill>
                  <a:srgbClr val="000066"/>
                </a:solidFill>
                <a:latin typeface="Comic Sans MS"/>
              </a:rPr>
              <a:t>expr:</a:t>
            </a: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 specifies precondition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100" spc="-1" strike="noStrike">
                <a:solidFill>
                  <a:srgbClr val="000066"/>
                </a:solidFill>
                <a:latin typeface="Comic Sans MS"/>
              </a:rPr>
              <a:t>@post </a:t>
            </a:r>
            <a:r>
              <a:rPr b="0" i="1" lang="en-CA" sz="2100" spc="-1" strike="noStrike">
                <a:solidFill>
                  <a:srgbClr val="000066"/>
                </a:solidFill>
                <a:latin typeface="Comic Sans MS"/>
              </a:rPr>
              <a:t>expr:</a:t>
            </a: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 specifies postconditions. Can refer to value of an expression when method was called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100" spc="-1" strike="noStrike">
                <a:solidFill>
                  <a:srgbClr val="000066"/>
                </a:solidFill>
                <a:latin typeface="Comic Sans MS"/>
              </a:rPr>
              <a:t>expr</a:t>
            </a:r>
            <a:r>
              <a:rPr b="1" lang="en-CA" sz="2100" spc="-1" strike="noStrike">
                <a:solidFill>
                  <a:srgbClr val="000066"/>
                </a:solidFill>
                <a:latin typeface="Comic Sans MS"/>
              </a:rPr>
              <a:t>@pre</a:t>
            </a: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 refers to the value of </a:t>
            </a:r>
            <a:r>
              <a:rPr b="0" i="1" lang="en-CA" sz="2100" spc="-1" strike="noStrike">
                <a:solidFill>
                  <a:srgbClr val="000066"/>
                </a:solidFill>
                <a:latin typeface="Comic Sans MS"/>
              </a:rPr>
              <a:t>expr</a:t>
            </a:r>
            <a:r>
              <a:rPr b="0" lang="en-CA" sz="2100" spc="-1" strike="noStrike">
                <a:solidFill>
                  <a:srgbClr val="000066"/>
                </a:solidFill>
                <a:latin typeface="Comic Sans MS"/>
              </a:rPr>
              <a:t> when a method was called (can only be used in postconditions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Comic Sans MS"/>
              </a:rPr>
              <a:t>@invariant 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(more on this soon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BE52C-072F-4844-A559-6A9A87CE213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Design by Contrac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A pre- and postcondition should be viewed as a </a:t>
            </a:r>
            <a:r>
              <a:rPr b="0" i="1" lang="en-CA" sz="2500" spc="-1" strike="noStrike">
                <a:solidFill>
                  <a:srgbClr val="000066"/>
                </a:solidFill>
                <a:latin typeface="Comic Sans MS"/>
              </a:rPr>
              <a:t>contract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 that binds a method and its caller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66"/>
                </a:solidFill>
                <a:latin typeface="Comic Sans MS"/>
              </a:rPr>
              <a:t>“</a:t>
            </a:r>
            <a:r>
              <a:rPr b="1" lang="en-CA" sz="2500" spc="-1" strike="noStrike">
                <a:solidFill>
                  <a:srgbClr val="000066"/>
                </a:solidFill>
                <a:latin typeface="Comic Sans MS"/>
              </a:rPr>
              <a:t>If you promise to call me with the </a:t>
            </a:r>
            <a:r>
              <a:rPr b="0" i="1" lang="en-CA" sz="2500" spc="-1" strike="noStrike">
                <a:solidFill>
                  <a:srgbClr val="000066"/>
                </a:solidFill>
                <a:latin typeface="Comic Sans MS"/>
              </a:rPr>
              <a:t>precondition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CA" sz="2500" spc="-1" strike="noStrike">
                <a:solidFill>
                  <a:srgbClr val="000066"/>
                </a:solidFill>
                <a:latin typeface="Comic Sans MS"/>
              </a:rPr>
              <a:t>satisfied, then I guarantee to deliver a final state in which the </a:t>
            </a:r>
            <a:r>
              <a:rPr b="0" i="1" lang="en-CA" sz="2500" spc="-1" strike="noStrike">
                <a:solidFill>
                  <a:srgbClr val="000066"/>
                </a:solidFill>
                <a:latin typeface="Comic Sans MS"/>
              </a:rPr>
              <a:t>postcondition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CA" sz="2500" spc="-1" strike="noStrike">
                <a:solidFill>
                  <a:srgbClr val="000066"/>
                </a:solidFill>
                <a:latin typeface="Comic Sans MS"/>
              </a:rPr>
              <a:t>holds.”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The caller thus knows nothing about </a:t>
            </a:r>
            <a:r>
              <a:rPr b="0" i="1" lang="en-CA" sz="2500" spc="-1" strike="noStrike">
                <a:solidFill>
                  <a:srgbClr val="000066"/>
                </a:solidFill>
                <a:latin typeface="Comic Sans MS"/>
              </a:rPr>
              <a:t>how 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the final state is produced, only that they can depend on delivery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The method and its implementer need only worry about cases where the </a:t>
            </a:r>
            <a:r>
              <a:rPr b="0" i="1" lang="en-CA" sz="2500" spc="-1" strike="noStrike">
                <a:solidFill>
                  <a:srgbClr val="000066"/>
                </a:solidFill>
                <a:latin typeface="Comic Sans MS"/>
              </a:rPr>
              <a:t>precondition</a:t>
            </a:r>
            <a:r>
              <a:rPr b="0" lang="en-CA" sz="2500" spc="-1" strike="noStrike">
                <a:solidFill>
                  <a:srgbClr val="000066"/>
                </a:solidFill>
                <a:latin typeface="Comic Sans MS"/>
              </a:rPr>
              <a:t> is true (and none other)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6B0DF-1A4D-4DD9-B5EE-B80CCFDFE4C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Comic Sans MS"/>
              </a:rPr>
              <a:t>Obligations and Gai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295280" y="1676520"/>
          <a:ext cx="6643800" cy="4484520"/>
        </p:xfrm>
        <a:graphic>
          <a:graphicData uri="http://schemas.openxmlformats.org/drawingml/2006/table">
            <a:tbl>
              <a:tblPr/>
              <a:tblGrid>
                <a:gridCol w="2579760"/>
                <a:gridCol w="2032200"/>
                <a:gridCol w="203184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Obliga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Gai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55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CLIE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Call </a:t>
                      </a:r>
                      <a:r>
                        <a:rPr b="0" i="1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Push(x)</a:t>
                      </a:r>
                      <a:r>
                        <a:rPr b="0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 when the Stack isn’t </a:t>
                      </a:r>
                      <a:r>
                        <a:rPr b="0" i="1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Full(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Gets </a:t>
                      </a:r>
                      <a:r>
                        <a:rPr b="0" i="1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x</a:t>
                      </a:r>
                      <a:r>
                        <a:rPr b="0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 added to the top of the Sta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CLASS AUTHO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Make sure that </a:t>
                      </a:r>
                      <a:r>
                        <a:rPr b="0" i="1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x</a:t>
                      </a:r>
                      <a:r>
                        <a:rPr b="0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 is on the </a:t>
                      </a:r>
                      <a:r>
                        <a:rPr b="0" i="1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top()</a:t>
                      </a:r>
                      <a:r>
                        <a:rPr b="0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 of the Sta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Need not treat the case when the Stack is </a:t>
                      </a:r>
                      <a:r>
                        <a:rPr b="0" i="1" lang="en-CA" sz="21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full()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A5C95-BAA9-4857-86F4-62E17CDAD6A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4:21:25Z</dcterms:created>
  <dc:creator>David Touzet</dc:creator>
  <dc:description/>
  <dc:language>en-US</dc:language>
  <cp:lastModifiedBy>Kurtev</cp:lastModifiedBy>
  <dcterms:modified xsi:type="dcterms:W3CDTF">2006-07-17T11:33:24Z</dcterms:modified>
  <cp:revision>860</cp:revision>
  <dc:subject/>
  <dc:title>Models Manip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74204776</vt:r8>
  </property>
  <property fmtid="{D5CDD505-2E9C-101B-9397-08002B2CF9AE}" pid="3" name="_AuthorEmail">
    <vt:lpwstr>jean.bezivin@univ-nantes.fr</vt:lpwstr>
  </property>
  <property fmtid="{D5CDD505-2E9C-101B-9397-08002B2CF9AE}" pid="4" name="_AuthorEmailDisplayName">
    <vt:lpwstr>Jean Bezivin</vt:lpwstr>
  </property>
  <property fmtid="{D5CDD505-2E9C-101B-9397-08002B2CF9AE}" pid="5" name="_EmailSubject">
    <vt:lpwstr>ModelWare 4.6</vt:lpwstr>
  </property>
  <property fmtid="{D5CDD505-2E9C-101B-9397-08002B2CF9AE}" pid="6" name="_ReviewingToolsShownOnce">
    <vt:lpwstr/>
  </property>
</Properties>
</file>